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5.jpeg" ContentType="image/jpeg"/>
  <Override PartName="/ppt/media/image14.jpeg" ContentType="image/jpe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8119-3489-4DFA-A4B6-D38BFF48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F10D-01E4-4408-AA11-DD471579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482-CC3B-41DD-B362-252A2F93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072C-B016-4637-82E3-33164000E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E4F3-8C5D-40E3-B932-29AAEFF9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AFA0A-B176-4110-9E03-6F6AC2F4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8E5A-2E29-4A16-A466-E249F21A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E6AF-9F1A-4A56-9491-D743F805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35AA-BC8E-49EF-B34C-B125FDF8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5DEC-ABAE-4769-82A9-EF4AE3D93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8242-2DE2-4EF4-9BC6-D4B76CA8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1A24-7172-46FA-9D08-E31BCA9D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C7A1-9C32-4601-B299-8D69D2C8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8477-725F-4894-A7C3-62E0A211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180ED-9C01-4D21-88C2-5BE30D5A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1E18-E087-4FAC-B3B7-7E204BBEB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C112-F077-4CE8-8407-4CEFD28E9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8AF77-61CD-49B2-A36D-290B1E09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9B6026-E3B7-49E4-8A50-502A26AD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62377A-BBD9-4130-BCA5-DCA7177E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097557-21B7-46E1-A2FA-7DA98E27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35066F-C5F5-4FDD-BFDF-6B20432F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1A5A-938C-4E17-82AA-561B3BE5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A5F3E9-7C68-4D96-B030-DFD96A7C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175BD8-DB4A-4024-BF58-F29192D6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0A458C-6288-4D6B-A3FB-74390FE0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EE4689-B39B-4432-BB49-E31374FD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37B04-B79E-49AC-A047-F9CE0B28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F57F9-B49C-4F6A-A15B-75A83DDE1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C0D37-8070-41BD-B8F4-75EA40F2A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270735-C145-4E60-91E5-69BC448F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39D70F-B8E1-4722-B2E9-69833479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73BB64-9E7E-49D7-90A3-8F5EB7F2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6530-B282-4F01-9929-B9F5F0EF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DE8EBE-0A6A-42E2-B32C-BC462D3E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DD35CB-8424-443D-AB6A-69F346C7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C2836-5AFC-40EA-9967-2243C535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8B0E1E-9D5B-4872-8A5D-2C9DD1FC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206B3A-F7DD-4117-BAB5-0CE091AC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C3F2BA-EC6F-4884-A1E2-A2CC7820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F64624-A1EB-4257-ABDF-7FE723C4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64735B-2080-4F97-B786-3C3FB033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C5811C-3C78-4680-99A8-3A5590AE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EB00FD-FBDD-4404-B619-5867D807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B0D7-E153-4F7E-BC90-EA6DD9916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D3028-838C-46E0-8D95-7654504C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C85993-636C-4187-8117-A353E302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89AD6E-FF3A-43B0-9A23-789974AD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07AC48-AEEF-46F7-9EED-29C9D4F8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89A40E-152C-40C1-A29F-A66D5A82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A1C90-0C48-4CEC-BE77-5153BE37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384B4E-67F8-4C44-B1B0-768190EA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D4A18E-15D2-465E-97DF-E3E5CEAE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F488DA-EE03-4DC3-AAA0-93B1600C6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3E25AB-103A-49B1-BAF6-62BC3816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E1B5-BDA8-429F-BC6B-5F45FED1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586044-C0FA-415D-9180-EE6A79BF1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B3D74-8F20-4E11-8AB5-CB7CA42AB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05843-B812-4016-937D-D7F16AC4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3F368-89BB-4C55-A5E7-845ED2A8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482CF-D462-4C79-80A5-386C2FD1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FBF7C-0FFA-4DF5-B177-80874905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B7D66-8699-4DF7-B8D1-EFEC5283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7E07E-C525-4423-832E-552AAEFD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BDB99-C2E6-46F0-82A0-79ED4467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7691D-59CD-4C9E-AE0F-8E09B78C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9F58-5DB5-4528-A761-BD21F20C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5E75F-E133-4CFB-8A6E-7034D9DD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FFE65-ADAB-4ED5-8F26-489168635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8E49C-1167-40C9-9E5B-F42D9591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6C031E-C43B-43EC-8AAD-A7A89A3D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E74E78-3550-4CEA-B4F6-7A9CB4BA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A62579-0B29-49B4-99EC-78D3E7852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40EF30-ADEB-4B0F-BA6F-B11650F8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D25B73-2024-4865-A6F9-610A1618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6301C-DC15-4BE1-88ED-853127DA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BBE62-6BDB-49BF-A0D7-3C726AF4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9BAA-067C-4DE7-919E-0C944C32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06F5F5-EB75-42F9-97E3-20C825882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44F974-11C5-47AC-A2F0-0D03567D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9CCEB6-F6A9-4B63-974C-71B6B09D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CDB330-5AF6-4FB4-95BD-774C8871E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C12B0-A729-4F93-A269-4FAAE2BB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D24B5-8FAB-4DC2-B628-EAC37A7F9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B446A-97F2-41F4-B760-87231258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CC1F4-EB0A-4CA0-A73B-36B48FC4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E6E95E-5FA1-4928-894B-4E0CE5FCE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A0059-8148-4B3D-B075-61A510F3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47BF-2C0F-4B43-8E10-B875C59A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ABB16-847F-4E75-A727-6D28FA395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117FB-8988-413B-BD78-EED20773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4EB90-C102-46BC-AA60-C6B2304D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FBABC-C49E-4D86-BBDE-736AF1B2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84DEF-879D-4F01-96B2-D84B2BD62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BC69B-F577-4916-8603-F661895C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B68E3-B293-4CB8-96EC-7D5ADB755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5DD0-D783-418B-A6CA-D6F29E10C48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beec9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fbeec9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eec9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93B0-ACF0-4550-94C6-31C2AADBD84C}" type="slidenum">
              <a:rPr b="1" lang="en-US" sz="1400" spc="-1" strike="noStrike">
                <a:solidFill>
                  <a:srgbClr val="fbeec9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2757-6C9F-4180-BB0D-8645D10BCA17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4AC2-81E3-4CA2-9A70-AC6B12295FB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84F7-3EA0-45B5-8369-67C8C60AC33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28842-141F-4906-AE4C-66C70CB9AFA1}" type="slidenum">
              <a:rPr b="1" lang="en-US" sz="1400" spc="-1" strike="noStrike">
                <a:solidFill>
                  <a:srgbClr val="4e3b30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3C9A-B14A-4F09-AB2C-19F135B782DD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a5644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b58b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3986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e3b30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e3b30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82FA-E3A5-446A-B18C-885E706682B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9360">
            <a:solidFill>
              <a:srgbClr val="7c4b3b"/>
            </a:solidFill>
            <a:miter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c4c2c"/>
                </a:solidFill>
                <a:latin typeface="Tempus Sans ITC"/>
              </a:rPr>
              <a:t>    </a:t>
            </a:r>
            <a:r>
              <a:rPr b="1" lang="en-US" sz="3600" spc="-1" strike="noStrike">
                <a:solidFill>
                  <a:srgbClr val="6c4c2c"/>
                </a:solidFill>
                <a:latin typeface="Tempus Sans ITC"/>
              </a:rPr>
              <a:t>Ninu Teodora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1" name="Rectangle 3" descr=""/>
          <p:cNvPicPr/>
          <p:nvPr/>
        </p:nvPicPr>
        <p:blipFill>
          <a:blip r:embed="rId1"/>
          <a:stretch/>
        </p:blipFill>
        <p:spPr>
          <a:xfrm>
            <a:off x="-311040" y="262080"/>
            <a:ext cx="9156600" cy="37368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2" descr="http://www.google.ro/url?source=imglanding&amp;ct=img&amp;q=http://www.cerceteaza.com/wp-content/uploads/2010/08/Primul-bec-electric.jpg&amp;sa=X&amp;ei=FGSmT-WCLZOi8gSpwNTNAw&amp;ved=0CAoQ8wc&amp;usg=AFQjCNFG-o2DLkd0Ma3dyXfV68So495miA"/>
          <p:cNvPicPr/>
          <p:nvPr/>
        </p:nvPicPr>
        <p:blipFill>
          <a:blip r:embed="rId2"/>
          <a:stretch/>
        </p:blipFill>
        <p:spPr>
          <a:xfrm>
            <a:off x="-55440" y="3090960"/>
            <a:ext cx="3139920" cy="274320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4" descr="http://www.google.ro/url?source=imglanding&amp;ct=img&amp;q=http://www.ghimpele.ro/wp-content/uploads/2012/05/vaccin-antirabic-ghimpele-630x418.jpg&amp;sa=X&amp;ei=ZmSmT6_MLYf68gTo7pHPAw&amp;ved=0CAkQ8wc&amp;usg=AFQjCNHXWHu04DEg8DETI1RykhnnMZrCBg"/>
          <p:cNvPicPr/>
          <p:nvPr/>
        </p:nvPicPr>
        <p:blipFill>
          <a:blip r:embed="rId3"/>
          <a:stretch/>
        </p:blipFill>
        <p:spPr>
          <a:xfrm>
            <a:off x="5784840" y="3425760"/>
            <a:ext cx="2975040" cy="2384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http://www.google.ro/url?source=imglanding&amp;ct=img&amp;q=http://www.christianlouboutinshoeonline.com/images/36shoes1/clsandals28.jpg&amp;sa=X&amp;ei=HWWmT_moNYP69QT4-fDZAw&amp;ved=0CAoQ8wc&amp;usg=AFQjCNEVR6NUpwaSDgWGtVSOZPTYnBKt4Q"/>
          <p:cNvPicPr/>
          <p:nvPr/>
        </p:nvPicPr>
        <p:blipFill>
          <a:blip r:embed="rId4"/>
          <a:stretch/>
        </p:blipFill>
        <p:spPr>
          <a:xfrm>
            <a:off x="6669000" y="55440"/>
            <a:ext cx="251784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-55440" y="-23760"/>
            <a:ext cx="925488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495680" y="1523520"/>
            <a:ext cx="46483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7" name="Picture 2" descr="http://www.google.ro/url?source=imglanding&amp;ct=img&amp;q=http://www.my-lampes.com/blog-lampe/wp-content/uploads/2012/04/thomas-edison-lampe-incandescence.jpg&amp;sa=X&amp;ei=63SmT_6GLYqs8ASz7OCgAw&amp;ved=0CAkQ8wc4EQ&amp;usg=AFQjCNEOvn6cqK9TDiE1hYbLEsFYPJmhFw"/>
          <p:cNvPicPr/>
          <p:nvPr/>
        </p:nvPicPr>
        <p:blipFill>
          <a:blip r:embed="rId2"/>
          <a:stretch/>
        </p:blipFill>
        <p:spPr>
          <a:xfrm>
            <a:off x="0" y="1523880"/>
            <a:ext cx="4533840" cy="266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358" name="Picture 4" descr="http://www.google.ro/url?source=imglanding&amp;ct=img&amp;q=http://www.larousse.fr/encyclopedie/data/images/1002844-Thomas_Edison.jpg&amp;sa=X&amp;ei=LHWmT9wXhbb1BMyUuMID&amp;ved=0CAkQ8wc&amp;usg=AFQjCNHFAPCYgzu7rDn-0an6zCbPQWF_WQ"/>
          <p:cNvPicPr/>
          <p:nvPr/>
        </p:nvPicPr>
        <p:blipFill>
          <a:blip r:embed="rId3"/>
          <a:stretch/>
        </p:blipFill>
        <p:spPr>
          <a:xfrm>
            <a:off x="0" y="3962520"/>
            <a:ext cx="4495680" cy="2895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59" name="TextBox 5"/>
          <p:cNvSpPr/>
          <p:nvPr/>
        </p:nvSpPr>
        <p:spPr>
          <a:xfrm>
            <a:off x="4952880" y="1523880"/>
            <a:ext cx="3733920" cy="5214600"/>
          </a:xfrm>
          <a:prstGeom prst="rect">
            <a:avLst/>
          </a:prstGeom>
          <a:solidFill>
            <a:srgbClr val="e3cabd"/>
          </a:solidFill>
          <a:ln w="10080">
            <a:solidFill>
              <a:srgbClr val="c1752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    </a:t>
            </a: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Le 22 Octobre 1879, un inventeur  américain  qui s’appele Thomas Edis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 </a:t>
            </a: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a decouvert l'éclairage électrique.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Segoe UI"/>
                <a:ea typeface="Segoe UI"/>
              </a:rPr>
              <a:t>    La première lampe à incandescence dure pendant quarante heures et  cette lampe represente le fin de l’éclairage avec l’huile ou avec le ga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e3cabd"/>
          </a:solidFill>
          <a:ln w="10080">
            <a:solidFill>
              <a:srgbClr val="c17529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03b14"/>
                </a:solidFill>
                <a:latin typeface="Kristen ITC"/>
              </a:rPr>
              <a:t>Le vaccin antirabique</a:t>
            </a:r>
            <a:endParaRPr b="0" lang="en-US" sz="40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a5644e"/>
          </a:solidFill>
          <a:ln w="47520">
            <a:solidFill>
              <a:srgbClr val="ffffff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ecd5"/>
                </a:solidFill>
                <a:latin typeface="Century"/>
              </a:rPr>
              <a:t>    </a:t>
            </a:r>
            <a:r>
              <a:rPr b="1" lang="en-US" sz="2800" spc="-1" strike="noStrike">
                <a:solidFill>
                  <a:srgbClr val="fcecd5"/>
                </a:solidFill>
                <a:latin typeface="Century"/>
              </a:rPr>
              <a:t>Louis </a:t>
            </a: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Pasteur commence ses recherches sur la rage en 1880. Il a fait la première tentative chez un enfant mordu par un chien enragé. Le 6 Juin 1885, début de la première série d'injections et, trois mois plus tard, l'enfant est sauvé. 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     </a:t>
            </a:r>
            <a:r>
              <a:rPr b="1" lang="fr-FR" sz="2800" spc="-1" strike="noStrike">
                <a:solidFill>
                  <a:srgbClr val="fcecd5"/>
                </a:solidFill>
                <a:latin typeface="Century"/>
              </a:rPr>
              <a:t>Académie de Sciences de la France a décidé de créer une institution pour le traitement de la rage, qui s’appelé l'Institut Pasteur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fr-FR" sz="2700" spc="-1" strike="noStrike">
                <a:solidFill>
                  <a:srgbClr val="ffffff"/>
                </a:solidFill>
                <a:latin typeface="Tw Cen MT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http://t3.gstatic.com/images?q=tbn:ANd9GcQARbNRm6iU4T2CX5JFCtHcRcKv7yEEv1aybPAOcgpKp_PYE9Kai-DFiPY0SQ"/>
          <p:cNvPicPr/>
          <p:nvPr/>
        </p:nvPicPr>
        <p:blipFill>
          <a:blip r:embed="rId1"/>
          <a:stretch/>
        </p:blipFill>
        <p:spPr>
          <a:xfrm>
            <a:off x="-19080" y="1706400"/>
            <a:ext cx="4226040" cy="9747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6" descr="http://www.google.ro/url?source=imglanding&amp;ct=img&amp;q=http://1.bp.blogspot.com/_eg4RyNmPMYM/TDHmORlMNpI/AAAAAAAAIbs/PCRiyEJ5nXI/s400/Louis+Pasteur.jpg&amp;sa=X&amp;ei=CIemT4__CYqi8QSe8qW2Ag&amp;ved=0CAkQ8wc&amp;usg=AFQjCNEn6sxaOPUOfAI9ZMX9Gpm5wmKbMQ"/>
          <p:cNvPicPr/>
          <p:nvPr/>
        </p:nvPicPr>
        <p:blipFill>
          <a:blip r:embed="rId2"/>
          <a:stretch/>
        </p:blipFill>
        <p:spPr>
          <a:xfrm>
            <a:off x="4224240" y="12600"/>
            <a:ext cx="4926240" cy="10606320"/>
          </a:xfrm>
          <a:prstGeom prst="rect">
            <a:avLst/>
          </a:prstGeom>
          <a:ln w="0">
            <a:noFill/>
          </a:ln>
        </p:spPr>
      </p:pic>
    </p:spTree>
  </p:cSld>
  <p:transition spd="med">
    <p:pull dir="l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6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solidFill>
            <a:srgbClr val="a5644e"/>
          </a:solidFill>
          <a:ln w="19080">
            <a:solidFill>
              <a:srgbClr val="784737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cecd5"/>
                </a:solidFill>
                <a:latin typeface="Kristen ITC"/>
              </a:rPr>
              <a:t>Les Talons Aiguilles</a:t>
            </a:r>
            <a:br>
              <a:rPr sz="4000"/>
            </a:br>
            <a:endParaRPr b="0" lang="en-US" sz="4000" spc="-1" strike="noStrike">
              <a:solidFill>
                <a:srgbClr val="4e3b30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solidFill>
            <a:srgbClr val="f8d7be"/>
          </a:solidFill>
          <a:ln w="10080">
            <a:solidFill>
              <a:srgbClr val="f0a22e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a5644e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523227"/>
                </a:solidFill>
                <a:latin typeface="Century"/>
              </a:rPr>
              <a:t>Les découverts dans les tombes égyptiennes datant de 4000 av J.-C. Mais, les femmes ont dû attendre jusqu'en 1950 et l'invention d'une fine tige métallique que Salvatore Ferragamo a nommé le Stiletto. Le mot vient du grec "stylos" ou "pilier".</a:t>
            </a:r>
            <a:br>
              <a:rPr sz="2900"/>
            </a:br>
            <a:r>
              <a:rPr b="0" lang="fr-FR" sz="2900" spc="-1" strike="noStrike">
                <a:solidFill>
                  <a:srgbClr val="523227"/>
                </a:solidFill>
                <a:latin typeface="Century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http://www.stilfeminin.ro/images/stories/imaginiarticole/modasifrumusete/istoriapantofului/l.jpg"/>
          <p:cNvPicPr/>
          <p:nvPr/>
        </p:nvPicPr>
        <p:blipFill>
          <a:blip r:embed="rId1"/>
          <a:stretch/>
        </p:blipFill>
        <p:spPr>
          <a:xfrm>
            <a:off x="533520" y="457200"/>
            <a:ext cx="7896240" cy="5994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http://www.google.ro/url?source=imglanding&amp;ct=img&amp;q=http://www.romaniaturistica.ro/imagini_articole/indicator_directie.jpg&amp;sa=X&amp;ei=h7SmT4fRF4-w8AT1t_juBQ&amp;ved=0CAoQ8wc&amp;usg=AFQjCNG8EsHiDDM3fRuu2eCLbdZ5qdLmjQ"/>
          <p:cNvPicPr/>
          <p:nvPr/>
        </p:nvPicPr>
        <p:blipFill>
          <a:blip r:embed="rId2"/>
          <a:stretch/>
        </p:blipFill>
        <p:spPr>
          <a:xfrm>
            <a:off x="1905120" y="1371600"/>
            <a:ext cx="4800600" cy="4800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http://www.google.ro/url?source=imglanding&amp;ct=img&amp;q=http://1.bp.blogspot.com/-SNIBWUOXPlE/Td53D9NMoPI/AAAAAAAAAIA/q4iFEJQiW1k/s1600/marilyn.jpg&amp;sa=X&amp;ei=hLWmT8qrF4a08ATbjN2eAw&amp;ved=0CAkQ8wc4JQ&amp;usg=AFQjCNFOkdTkE-sHR8fn-qvGAddPlbsUiw"/>
          <p:cNvPicPr/>
          <p:nvPr/>
        </p:nvPicPr>
        <p:blipFill>
          <a:blip r:embed="rId3"/>
          <a:stretch/>
        </p:blipFill>
        <p:spPr>
          <a:xfrm>
            <a:off x="762120" y="457200"/>
            <a:ext cx="7543800" cy="6156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8" descr="http://www.google.ro/url?source=imglanding&amp;ct=img&amp;q=http://www.romaniaturistica.ro/imagini_articole/indicator_directie.jpg&amp;sa=X&amp;ei=h7SmT4fRF4-w8AT1t_juBQ&amp;ved=0CAoQ8wc&amp;usg=AFQjCNG8EsHiDDM3fRuu2eCLbdZ5qdLmjQ"/>
          <p:cNvPicPr/>
          <p:nvPr/>
        </p:nvPicPr>
        <p:blipFill>
          <a:blip r:embed="rId4"/>
          <a:stretch/>
        </p:blipFill>
        <p:spPr>
          <a:xfrm>
            <a:off x="1905120" y="1295280"/>
            <a:ext cx="5105160" cy="5105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http://www.google.ro/url?source=imglanding&amp;ct=img&amp;q=http://www.christianlouboutinsale--outlet.com/images/Christian%20Louboutin%20Sandals/CL010049_03.jpg&amp;sa=X&amp;ei=Q7amT5DaKIqs9AT01r3kAw&amp;ved=0CAkQ8wc4qAE&amp;usg=AFQjCNEtMsp8pP7M-R3Be8k8hAmW6GL_yg"/>
          <p:cNvPicPr/>
          <p:nvPr/>
        </p:nvPicPr>
        <p:blipFill>
          <a:blip r:embed="rId5"/>
          <a:stretch/>
        </p:blipFill>
        <p:spPr>
          <a:xfrm>
            <a:off x="1523880" y="609480"/>
            <a:ext cx="5943600" cy="59436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3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OME</cp:lastModifiedBy>
  <dcterms:modified xsi:type="dcterms:W3CDTF">2012-06-02T05:53:07Z</dcterms:modified>
  <cp:revision>206</cp:revision>
  <dc:subject/>
  <dc:title>Slide 1</dc:title>
</cp:coreProperties>
</file>